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18668"/>
        <c:axId val="69195694"/>
      </c:barChart>
      <c:catAx>
        <c:axId val="86418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95694"/>
        <c:crosses val="autoZero"/>
        <c:auto val="1"/>
        <c:lblAlgn val="ctr"/>
        <c:lblOffset val="100"/>
        <c:noMultiLvlLbl val="0"/>
      </c:catAx>
      <c:valAx>
        <c:axId val="69195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18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896-FD64-4D8C-8D67-6FE1C5F3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945-49F4-4510-BEFA-A3FBB7C6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4D6-1A5C-4955-8C37-611C8969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26E-88AA-485E-A8E6-FF423DB4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FEC-1200-46EA-AF66-E57002D8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2F1-A1AE-49FF-9AFD-D4C3807F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9B4-AD0D-4691-AF8D-9046109D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A0F-0BED-4C9D-8866-99E3612F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4E8-C0AC-45A4-ABBE-A6DE5B1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67A-2902-41B6-A5A5-9484FD4A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E3E-06BD-4876-BB0C-59E499F7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E04-BE76-40C3-8EC6-B70ACFD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87FD4-4731-4EFE-A4F3-F4C706061B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