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28369"/>
        <c:axId val="10582947"/>
      </c:barChart>
      <c:catAx>
        <c:axId val="64928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2947"/>
        <c:crosses val="autoZero"/>
        <c:auto val="1"/>
        <c:lblAlgn val="ctr"/>
        <c:lblOffset val="100"/>
        <c:noMultiLvlLbl val="0"/>
      </c:catAx>
      <c:valAx>
        <c:axId val="10582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28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2E9-DE3C-411D-80C0-0D1E105F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7BD-4AEC-4877-8527-765E3171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2CE-182D-4789-85D9-2A3EB440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515-4B18-4A70-B1C9-B6E9F3F2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BB1-185A-410D-8111-64A42E78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E6F-BA58-4645-873A-BEE5A73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745-0675-477C-B5C0-03451AE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9B3-CC4C-4F55-8A0B-B567A02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A20-23B1-4CFF-B77B-5C7A3AC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E2B-7D8F-427E-9AB4-5B39182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308-6AA9-4246-864A-022BA16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87F-942A-42FF-BF10-6DA7F707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FB73B-6800-4403-B0CC-FAA7E972AA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