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887022"/>
        <c:axId val="64806661"/>
      </c:barChart>
      <c:catAx>
        <c:axId val="47887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6661"/>
        <c:crosses val="autoZero"/>
        <c:auto val="1"/>
        <c:lblAlgn val="ctr"/>
        <c:lblOffset val="100"/>
        <c:noMultiLvlLbl val="0"/>
      </c:catAx>
      <c:valAx>
        <c:axId val="64806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87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BFF-8E65-4C93-ABBE-AF9FCB79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6C8-0408-4314-AAE4-2915A5F5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BEF-83E6-4F36-9D0F-1D6719ED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EFD-C9CE-4B6D-843A-8DE18F0A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DCF-1020-4CA9-A270-17700759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C35-BA63-4A13-84A9-0799E189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831-346F-4DC7-9339-D4AFBE15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7373-CCE3-4B21-AE57-3F410507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7EB-39FD-4D6F-BA04-71372A6A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8D6-9A6A-4818-BBD2-24A3C3D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B13-F137-4E45-93F6-AA12365A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FD1-4364-4BD0-AF40-F497E095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1A26A-9C08-4E90-A5D0-24043EFFDD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